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FAF-FAF3-41AC-A35C-A8389CA4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60C-336F-4A03-AE05-5BF6874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D1A-640B-4E8E-919A-2A746C2F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648-2EE3-4889-B0FD-0118CE1B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03DA-B090-49C1-8FA8-0AC9F76B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2236-6021-47A1-A40C-1EE1B4DF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462-AE08-47F8-A83F-38552E1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B78-DCFA-4A67-8930-0CF4065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4928-C6FB-4421-950F-424B488C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6FDC-C3EF-4AB5-822A-2B337F5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501A-670A-4417-8080-3E362B0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0BC-B96F-4E68-901E-77181BE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B49F-A990-4B20-919F-C2B680D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DF9F-A7E0-431C-AA9F-670AD5DB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BD4-FB95-4638-8806-02BCA8E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565-9EA9-4851-87B9-C40BFFD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709-905A-42D4-9CC6-9CC4758B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CA9-3966-426E-95CC-CDFBB3A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1D9-BBAC-44B7-8FD7-A79BFA3D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979-5ACE-4F13-9546-A682423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9F0-8A1F-4A1F-BBF2-27AB6CE6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412-4DE4-4F90-8296-C3F875A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741-7607-46A6-BBDC-FF691FB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966-4809-41B4-ABFB-54AA3207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C21-2ED6-40BF-BE08-A9FC9C13D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36F-0F34-4143-8820-A14D46AE1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5840" y="281160"/>
            <a:ext cx="41958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morilla burla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o m’era mora Morai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lla de un bel ca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istiano vino  a mi puer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itada, por m’engañ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óme en algarab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o aquél que la bien sab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Abrasme las puertas, mo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Alá te guarde de 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¿Cómo t’abriré, mezqui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no sé quién te será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soy el moro Mazo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rmano de la tu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un cristiano dejó muer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ras de mí venía el alca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no me abres tú, mi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70800" y="690480"/>
            <a:ext cx="286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í me verás matar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ando esto oí, cuita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encéme a levant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istiérame una almej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hallando mi br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érame para la puer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bríla de par en p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35:07Z</dcterms:created>
  <dc:creator> </dc:creator>
  <dc:description/>
  <dc:language>en-US</dc:language>
  <cp:lastModifiedBy> </cp:lastModifiedBy>
  <dcterms:modified xsi:type="dcterms:W3CDTF">2007-09-28T01:07:52Z</dcterms:modified>
  <cp:revision>3</cp:revision>
  <dc:subject/>
  <dc:title>Diapositiva 1</dc:title>
</cp:coreProperties>
</file>